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F191-6B27-40DE-92AD-7936C0E71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AF5A-FD59-4A57-BB73-3FDE0E923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2995-0B1B-4683-BA6D-032E06223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42C2-3254-46E2-8944-D8827D764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5733-DE3E-459D-97A8-02A3F2C38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C1E4-F166-4195-9B6B-17FF1FDF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D0AE-2BB0-4E52-A234-D12F40D12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5035-F54F-4AD9-8E3A-5A789D280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5CF5-49AA-4053-9B53-D863BEF21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319A-9653-4B7F-8B3A-BFE6D640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7897-D33E-4700-92E2-24285B1E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66B9-D6E5-42CB-86E6-3A3D8FA5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4DD44-F667-461A-8FC4-3EAEB45B7A9A}" type="slidenum">
              <a:rPr b="0" lang="ar-L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989000"/>
            <a:ext cx="914400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أترك كلّ شيءٍ واتبعني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وأنا أكون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لكَ نصيبا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692360" y="1989000"/>
            <a:ext cx="594360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أترك كلّ شيءٍ تُعطَى كلَّ شيء واحمل الصليبَ تعال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92360" y="2060640"/>
            <a:ext cx="594360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تجد الراحةَ والهدوء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لن يخيبَ ظنّكَ تعال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1989000"/>
            <a:ext cx="914400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أترك كلّ شيءٍ واتبعني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وأنا أكون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لكَ نصيبا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116000" y="1989000"/>
            <a:ext cx="594360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حيثما أقمتَ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أقيمُ أن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لن يغيبَ وجهِيَ تعال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2060640"/>
            <a:ext cx="594360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إنّي اختَرتُكَ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لي عونا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العلى يدعوكَ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تعال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989000"/>
            <a:ext cx="914400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أترك كلّ شيءٍ واتبعني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وأنا أكون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لكَ نصيبا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68360" y="2205000"/>
            <a:ext cx="536436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نظرتُ في عينيكَ وأحبَبتُكَ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عرفتُ ما في قلبكَ تعال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68360" y="2276640"/>
            <a:ext cx="5364360" cy="29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أرضُكَ العطشَى للحُبِ والسلام تصرُخُ إليكَ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تعال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989000"/>
            <a:ext cx="914400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أترك كلّ شيءٍ واتبعني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وأنا أكون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لكَ نصيبا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4T10:20:38Z</dcterms:created>
  <dc:creator>Charbel Azar</dc:creator>
  <dc:description/>
  <dc:language>en-US</dc:language>
  <cp:lastModifiedBy>ف</cp:lastModifiedBy>
  <dcterms:modified xsi:type="dcterms:W3CDTF">2007-03-13T18:27:16Z</dcterms:modified>
  <cp:revision>8</cp:revision>
  <dc:subject/>
  <dc:title>Slide 1</dc:title>
</cp:coreProperties>
</file>